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09600" y="284040"/>
            <a:ext cx="61214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0522-28D8-4198-ABEE-7C402789C4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일이 언급한 스트라스부르 시계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57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 완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의 그림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87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에 재건된 모습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시계는 시간을 알려줄 뿐만 아니라 태양과 달의 주기를 나타내기도 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식과 월식을 계산하기도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탑의 꼭대기에 있는 닭 모양의 자동인형은 매일 정오에 세 번씩 소리내어 울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시계는 사람이 의도한 기능을 수행하기 위해 사람에 의해 만들어지고 설계된 복잡한 인공물이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비록 시계가 살아 있는 것은 아니지만 지적인 존재의 복잡성과 목적의식을 모방하고 있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일 당신이 시계를 의도적으로 존재하게끔 한 지적인 제조자가 있다는 사실을 알지 못했다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시계가 스스로 지적이며 목적의식을 가지고 있다고 생각할 수도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그러나 분별력 있는 사람이라면 그것을 우리가 직접 만들었다는 것을 알기 때문에 그 기계들이 목적을 가진 존재가 아니란 것을 충분히 알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일 철학자들이 자연계가 규칙적인 운동 양식을 보인다고 생각했다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기계적인 시계는 규칙적인 자연 운동 방식을 모델로 해서 기계적으로 만들어 낸 것이라고 볼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일반적으로 기계들은 한정된 구조를 가지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또한 기계들을 만들거나 동작시키는 데 필요한 물질과 운동은 원칙적으로 인간이 알 수 있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명시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한마디로 기계들은 완전히 이해할 수 있는 대상이라 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통적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흡입 펌프가 물을 끌어올릴 수 있는 것은 진공 상태를 꺼리는 물의 속성 때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은 진공 상태를 방지하기 위해 꼭대기로 올라가려는 성질을 가지고 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기둥 높이의 한계는 그러한 두려움의 강도에 대한 양적인 척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토리첼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Evangelista Torricelli, 1608-1647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펌프 안에는 물기둥이 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바깥에는 그만큼의 공기 기둥이 있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기둥과 바닥에서 밀어 올리는 공기의 무게가 같아질 때 안정을 유지하는 높이에 이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잘 알려진 기계적 균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63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코페르니쿠스적 관점에서 우주론과 물리학을 다룬 〈세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Le Mond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 출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출판하려 했으나 이탈리아 천문학자 갈릴레오 갈릴레이가 지동설을 주장하여 유죄판결을 받았다는 이야기를 듣고 나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판 미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193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법서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굴절광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상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하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라틴어로 쓰지 않은 최초의 근대철학서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피론주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극단적 회의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감각에 대한 불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학에 대한 불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50920" y="284040"/>
            <a:ext cx="6238800" cy="4680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09600" y="5108400"/>
            <a:ext cx="6121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혜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다른 강으로 휩쓸린 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빛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입자의 운동이 공기의 원심적 압력에 의해 전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색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입자의 회전속도 차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조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달의 운동에 의한 압력 때문에 발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1A5-5288-48D3-AABB-AF70235C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075-3224-40CE-A4CD-E592362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AC2-4104-4E60-9BC1-3F699EAD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DCB-92CD-4624-8651-BF36506F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0F8A-8B6B-4B9F-9020-9C8A718B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4387-ABE8-4AE9-AFC2-15DAF33E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A372-97E2-4703-8ED9-D0FDD9E6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09CF-1282-4A36-80A3-E74DA45A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1B9-AB5E-4727-B571-DD9568D1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D5A7-7D9F-45DD-955F-10BDEFB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07DD-485E-416C-A6F1-E77534D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B31-382C-4F17-9E62-9A74B2CE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6FD3-4828-46ED-BD86-78D8FD4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A05F-5C41-44F2-831C-55A63BE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2B39-A91E-446B-93F2-E9017CD7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DD0E-8E6D-4D64-AE7A-A5319DA0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41264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4082400"/>
            <a:ext cx="2576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7B45-93BD-41D3-9613-C0DDEBE5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DD1-02A9-4E4D-8A94-F7B0EB8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062-94DD-48F3-A9E3-84B636B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9D1-6D0B-4FA0-9A8B-0109D49E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C83-6587-4A81-BA83-D695AD2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D27-8034-469F-9B26-3F8DB6B9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08240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ED0-B8C9-43C6-AC84-C43C2CB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412640"/>
            <a:ext cx="39042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4082400"/>
            <a:ext cx="8001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9A4-A2A6-4189-81B4-2DBB0203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EAD5-BAAD-4F54-9D6A-1BE9C246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4C4-9221-4C2C-AB2A-A79C0B3A0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Automaton" TargetMode="External"/><Relationship Id="rId3" Type="http://schemas.openxmlformats.org/officeDocument/2006/relationships/hyperlink" Target="http://en.wikipedia.org/wiki/Jacques_de_Vaucanson" TargetMode="External"/><Relationship Id="rId4" Type="http://schemas.openxmlformats.org/officeDocument/2006/relationships/hyperlink" Target="http://en.wikipedia.org/wiki/Jacques_de_Vaucanson" TargetMode="External"/><Relationship Id="rId5" Type="http://schemas.openxmlformats.org/officeDocument/2006/relationships/hyperlink" Target="http://en.wikipedia.org/wiki/1739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기계적 철학</a:t>
            </a: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: 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데카르트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646520" cy="605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06440" y="2917800"/>
            <a:ext cx="3984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자기 현상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413000"/>
            <a:ext cx="80010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나선형의 미립자들의 운동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미립자에 꼭 들어맞는 구멍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자석의 양극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왼 나사와 오른 나사 모양의 미립자와 구멍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563" t="4522" r="6253" b="0"/>
          <a:stretch/>
        </p:blipFill>
        <p:spPr>
          <a:xfrm>
            <a:off x="2195640" y="2643120"/>
            <a:ext cx="44640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인체의 작동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640" y="1412640"/>
            <a:ext cx="4221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소화 작용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음식 입자들을 열로 분해하는 것으로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가장 거친 입자는  직장을 통해 배출되며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가장 미세한 입자들은 적절한 크기의 구멍을 통해 두뇌와 생식기관을 향해 흐른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반사 작용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의 불 미립자들은 매우 빠르게 움직이므로 인접한 피부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의 위치를 바꿔놓을 힘을 가지게 된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이것은 신경섬유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cc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를 잡아당겨 ‘마치 줄을 당기면 반대편 끝의 벨이 울리게 되는 것처럼’ 뇌에서 끝나는 구멍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de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를 열게 만든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구멍이 열리면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뇌의 공동 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에 들어 있던 ‘동물적 정신’은 구멍으로 운반되는데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“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일부는 불로부터 발을 빼게 하는 근육으로 들어가고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일부는 눈과 머리를 발 쪽으로 돌리게 하는 곳으로 들어가며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vantGarde Bk BT"/>
              </a:rPr>
              <a:t>일부는 손을 뻗치고 몸을 구부려 보호하게 하는 곳으로 들어간다</a:t>
            </a: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3981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인간 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= Mind + Body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22360" y="1413000"/>
            <a:ext cx="3905280" cy="525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40360" y="1412640"/>
            <a:ext cx="442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Body=Machine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Mind: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인간의 육체와는 독립적으로 존재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데카르트의 포부와 약점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알려진 모든 것에 대한 기계적 설명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정신을 제외한 모든 현상이 미세 입자와 그것의 운동으로 “환원 가능”하다는 선언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But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많은 경우 조악한 설명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e.g.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맛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잘못 알려진 현상에 대해서도 설명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중력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자기력 등의 ‘신비한 힘’ 배제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가베이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(Alan Gabbey)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의 평가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전에는 아편이 수면제의 특질을 가지고 있기 때문에 당신을 잠들게 했다고 설명한 반면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제는 아편이 당신의 생리적 구조에 잠들게 하는 방식으로 작용하는 미립자의 미세구조를 가지고 있기 때문에 당신을 잠들게 한 것이라고 설명한다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로버트 보일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(Robert Boyle, 1627-1691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085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기계적 철학’이란 용어의 창시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기압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공기를 구성하는 </a:t>
            </a:r>
            <a:r>
              <a:rPr b="1" lang="zh-CN" sz="2600" spc="-1" strike="noStrike">
                <a:solidFill>
                  <a:srgbClr val="cc0000"/>
                </a:solidFill>
                <a:latin typeface="AvantGarde Bk BT"/>
              </a:rPr>
              <a:t>보이지 않는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 미립자의 탄성력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이해가능성 ↑ 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확인가능성 ↓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감각적인 수단으로는 입증 불가능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하나의 기계적 설명은 가설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세심한 실험과 신중한 태도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265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중간고사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5/4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금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)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가이드라인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사람과 사건 연결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1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1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1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코페르니쿠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티코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케플러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갈릴레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) --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태양흑점관측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OX (2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4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8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데카르트는 인간의 정신까지 기계적으로 설명했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 (  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사건 또는 책 순서 나열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2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2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4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아카데미아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왕립학회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지혜의 집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볼로냐 대학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객관식 및 단답형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3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6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18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코페르니쿠스에 대한 설명 중 옳은 것은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주관식 서술형 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(2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×3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문항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=60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점</a:t>
            </a:r>
            <a:r>
              <a:rPr b="1" lang="ko-KR" sz="21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E.g.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티코의 천문학 체계가 지구중심적임에도 그의 천문학이 혁명적이라고 평가할 수 있는 이유는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※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사정상 사소한 변경이 있을 수 있음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※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5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월 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1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일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화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)</a:t>
            </a:r>
            <a:r>
              <a:rPr b="1" lang="ko-KR" sz="2100" spc="-1" strike="noStrike">
                <a:solidFill>
                  <a:srgbClr val="cc0000"/>
                </a:solidFill>
                <a:latin typeface="AvantGarde Bk BT"/>
              </a:rPr>
              <a:t>는 휴강</a:t>
            </a:r>
            <a:endParaRPr b="1" lang="en-US" sz="21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그들에게 무겁다는 게 무슨 뜻이냐고 묻는다면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그들은 지구의 중심으로 가려고 하는 노력이라고 말할 것이다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마찬가지로 사물이 아래로 내려가는 원인은 내려가려고 하는 노력이라고 말할 것이다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몸이 내려가고 올라가는 것은 그러려고 하기 때문이라는 것은 마치 … 돌과 쇠붙이가 욕망을 가지고 있거나 혹은 사람처럼 그것들이 있어야 할 자리를 식별한다는 얘기와 마찬가지이다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.” (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홉스의 아리스토텔레스 비판</a:t>
            </a:r>
            <a:r>
              <a:rPr b="0" lang="ko-KR" sz="30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자연물과 인공물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베이컨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Francis Bacon, 1561-1626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인공물은 형태나 내용면에서 자연의 것과 다르지 않으며 … 사물이 발생시키는 효과면에서도 그것이 인위적 수단으로 만들어졌건 아니건 간에 문제가 되지는 않는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가상디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Pierre Gassendi, 1596-1650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자연의 사물에 관하여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우리는 우리 자신이 만들어 낸 사물을 연구하는 것과 같은 방식으로 연구한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데카르트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Rene Descartes, 1596-1650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인간이 만든 기계와 자연적으로 만들어진 기계 사이에는 차이점이 없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물리학이 적용되지 않는 기계장치란 없으며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기계장치는 물리학의 한 부분이나 특별한 상황을 형성하고 있음에 틀림없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 (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따라서 모든 인위적인 것은 또한 자연적인 것이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)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즉 시간을 알려주기 위해 필요한 수의 톱니바퀴들로 구성된 시계는 어떤 씨앗이 자라 과일 나무로 성장하는 것과 마찬가지로 자연적이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시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정밀 자동기계의 대표격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케플러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1605)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나는 물리적 원인에 대해 많은 연구를 했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 목적은 우주라는 기계가 살아 있는 성스러운 존재가 아니라 시계와 비슷한 것임을 보여주는 것이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”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데카르트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시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그리고 이런 종류의 다른 기계들은 비록 사람이 만든 것이기는 해도 그렇다고 그것들이 각자의 방식으로 스스로 움직이는 힘이 결여된 것은 아니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”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어째서 인간의 호흡과 소화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감각에 대해서는 시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분수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제분기의 운동을 설명하는 것과 같은 방식으로 설명하지 않는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보일 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계는 “한마디로 거대한 시계 운동의 일부분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스트라스부르크 성당의 천문시계와 비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   </a:t>
            </a:r>
            <a:r>
              <a:rPr b="1" lang="ko-KR" sz="3800" spc="-1" strike="noStrike">
                <a:solidFill>
                  <a:srgbClr val="cc0000"/>
                </a:solidFill>
                <a:latin typeface="AvantGarde Bk BT"/>
              </a:rPr>
              <a:t>스트라스부르크 성당의 천문 시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392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그 진기한 기계를 구성하고 있는 각 부분들은 매우 틀이 잘 잡히고 적합하며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바퀴와 부속품이 엄청나게 많다고 해도 그런 운동에 적절하고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어떠한 지식이나 설계가 없어도 각 부분이 각자의 방식에 따라 움직인다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더구나 그것들은 마치 스스로 자기들의 임무를 알고 생각하는 것처럼 규칙적이고 일정하게 움직이도록 고안된 것이어서 각각의 부속품들은 다양한 목적에 따라 움직이고 있다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.” (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보일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898800" cy="504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54240" y="6553080"/>
            <a:ext cx="311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1574</a:t>
            </a:r>
            <a:r>
              <a:rPr b="0" lang="zh-CN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년 완성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. </a:t>
            </a:r>
            <a:r>
              <a:rPr b="0" lang="zh-CN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위의 그림은 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1870</a:t>
            </a:r>
            <a:r>
              <a:rPr b="0" lang="zh-CN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년 재건된 모습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  <a:ea typeface="가는각진제목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자동 기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805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 비유의 설득력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겉보기의 생명력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사실상의 인공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일률성과 규칙성의 표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의 이해 가능성 → 자연의 이해 가능성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신이 직접 손으로 만들거나 자기 마음에 따라 설계한 것에 한해서는 확실하게 알 수 있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의 ‘놀라움을 제거하기’ 위한 매개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을 마치 기계인 것처럼 생각하라’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vantGarde Bk BT"/>
              </a:rPr>
              <a:t>Digesting Duck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was an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2"/>
              </a:rPr>
              <a:t>automaton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duck created by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3"/>
              </a:rPr>
              <a:t>Jacques de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4"/>
              </a:rPr>
              <a:t>Vaucanson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in </a:t>
            </a:r>
            <a:r>
              <a:rPr b="0" lang="ko-KR" sz="1400" spc="-1" strike="noStrike" u="sng">
                <a:solidFill>
                  <a:srgbClr val="336699"/>
                </a:solidFill>
                <a:uFillTx/>
                <a:latin typeface="AvantGarde Bk BT"/>
                <a:hlinkClick r:id="rId5"/>
              </a:rPr>
              <a:t>1739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vantGarde Bk BT"/>
              </a:rPr>
              <a:t>The Turk</a:t>
            </a:r>
            <a:r>
              <a:rPr b="0" lang="ko-KR" sz="1400" spc="-1" strike="noStrike">
                <a:solidFill>
                  <a:srgbClr val="000000"/>
                </a:solidFill>
                <a:latin typeface="AvantGarde Bk BT"/>
              </a:rPr>
              <a:t> was a hoax that purported to be a chess-playing machine. Constructed and unveiled in 1770 by the Austrian-Hungarian baron Wolfgang von Kempelen (1734–1804).</a:t>
            </a:r>
            <a:endParaRPr b="1" lang="en-US" sz="14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227640" y="3429000"/>
            <a:ext cx="2916360" cy="244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he Digesting Duck"/>
          <p:cNvPicPr/>
          <p:nvPr/>
        </p:nvPicPr>
        <p:blipFill>
          <a:blip r:embed="rId7"/>
          <a:stretch/>
        </p:blipFill>
        <p:spPr>
          <a:xfrm>
            <a:off x="6227640" y="789120"/>
            <a:ext cx="2916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새로운 설명 방식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기계론적 설명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805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기계적 철학자들의 공유된 인식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아리스토텔레스주의의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의인화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목적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지각력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배제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르네상스 신비주의의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신비한 힘들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배제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sympathy, attraction, antipathy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등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르네상스 자연주의의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자연의 능동성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 배제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→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1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차적 성질 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vs. 2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차적 성질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→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물질은 수동적” 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+ “</a:t>
            </a: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자연 현상은 알기 쉬운 기계적이고 물질적인 원인에 근거해 설명될 수 있다”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예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물 흡입 펌프의 원리와 한계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(10m)</a:t>
            </a:r>
            <a:r>
              <a:rPr b="1" lang="ko-KR" sz="2000" spc="-1" strike="noStrike">
                <a:solidFill>
                  <a:srgbClr val="000000"/>
                </a:solidFill>
                <a:latin typeface="AvantGarde Bk BT"/>
              </a:rPr>
              <a:t>에 대한 설명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전통적 설명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진공을 꺼리는 물의 속성과 그 강도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토리첼리의 설명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vantGarde Bk BT"/>
              </a:rPr>
              <a:t>물기둥과 공기기둥의 무게 차이와 평형</a:t>
            </a:r>
            <a:endParaRPr b="0" lang="en-US" sz="19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5080" y="404640"/>
            <a:ext cx="2524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데카르트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(Rene Descartes, 1596-1650)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pic>
        <p:nvPicPr>
          <p:cNvPr id="111" name="" descr="Image:Descartes.jpg"/>
          <p:cNvPicPr/>
          <p:nvPr/>
        </p:nvPicPr>
        <p:blipFill>
          <a:blip r:embed="rId2"/>
          <a:stretch/>
        </p:blipFill>
        <p:spPr>
          <a:xfrm>
            <a:off x="6723000" y="1484280"/>
            <a:ext cx="242100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683400" y="3500280"/>
            <a:ext cx="246060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412640"/>
            <a:ext cx="6021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신독단론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회의론 극복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명징성의 재확립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감각경험에 대한 체계적 의심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방법론적 회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나는 생각한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고로 나는 존재한다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계 존재 증명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형식적 논증은 아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적 철학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세계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=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물질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+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물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간을 차지하는 기하학적 외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간을 차지하는 것이 곧 물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계는 세 가지 물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로 꽉 찬 연속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plenum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운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최초에 신이 부여한 운동은 보존되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충돌에 의해서만 힘 전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데카르트 식의 물리적 설명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사물의 구성 성분과 입자들의 운동 상태를 밝히는 것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세계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불활성 입자들의 소용돌이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5085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물질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불 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&lt;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공기 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&lt;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흙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중력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소용돌이 운동을 하는 물질입자들 중 상대적으로 원심적 효과가 작은 물질들에 미치는 겉보기 현상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혜성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빛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색깔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조수</a:t>
            </a:r>
            <a:r>
              <a:rPr b="1" lang="en-US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vantGarde Bk BT"/>
              </a:rPr>
              <a:t>종국적으로는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불활성 물질 입자들의 크기</a:t>
            </a:r>
            <a:r>
              <a:rPr b="1" lang="en-US" sz="20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모양</a:t>
            </a:r>
            <a:r>
              <a:rPr b="1" lang="en-US" sz="20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배치</a:t>
            </a:r>
            <a:r>
              <a:rPr b="1" lang="en-US" sz="20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000" spc="-1" strike="noStrike">
                <a:solidFill>
                  <a:srgbClr val="cc0000"/>
                </a:solidFill>
                <a:latin typeface="AvantGarde Bk BT"/>
              </a:rPr>
              <a:t>충돌로 설명</a:t>
            </a:r>
            <a:endParaRPr b="1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821320" cy="36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880000" cy="249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rene descartes"/>
          <p:cNvPicPr/>
          <p:nvPr/>
        </p:nvPicPr>
        <p:blipFill>
          <a:blip r:embed="rId4"/>
          <a:stretch/>
        </p:blipFill>
        <p:spPr>
          <a:xfrm>
            <a:off x="6084720" y="4119480"/>
            <a:ext cx="2808360" cy="2135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55640" y="4005360"/>
            <a:ext cx="2305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06:46:50Z</dcterms:created>
  <dc:creator>Woogie</dc:creator>
  <dc:description/>
  <dc:language>en-US</dc:language>
  <cp:lastModifiedBy>Woogie</cp:lastModifiedBy>
  <dcterms:modified xsi:type="dcterms:W3CDTF">2007-07-18T07:09:28Z</dcterms:modified>
  <cp:revision>8</cp:revision>
  <dc:subject/>
  <dc:title>슬라이드 1</dc:title>
</cp:coreProperties>
</file>